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1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47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ftr" idx="48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 type="sldNum" idx="49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C7BA219-1F35-4CD7-B750-1609F54C8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36C3A35-5004-4841-9AD3-648BA1D4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DAB1785-0568-4434-B128-FBCB9A66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5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D1A2D8-D0E1-4C84-AFFA-70E34A05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E5CD161-20DB-4FD6-B190-A94DE587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7D26FD6-9648-4CB9-BC87-46B9E7BB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C9580C1-EA81-4547-9DE9-076594B0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3514261-F8E7-4C36-8241-D49F6016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A779B2-8F9B-4922-AF61-24CA7315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-1077840" y="46080"/>
            <a:ext cx="9166320" cy="6873840"/>
          </a:xfrm>
          <a:prstGeom prst="rect">
            <a:avLst/>
          </a:prstGeom>
          <a:ln w="0">
            <a:noFill/>
          </a:ln>
        </p:spPr>
      </p:sp>
      <p:sp>
        <p:nvSpPr>
          <p:cNvPr id="1282" name="Text Box 3"/>
          <p:cNvSpPr/>
          <p:nvPr/>
        </p:nvSpPr>
        <p:spPr>
          <a:xfrm>
            <a:off x="187920" y="6978600"/>
            <a:ext cx="884304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7480" tIns="86400" bIns="864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Ensure early involvement by asking people for their expectat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Remove the word training from the slid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Convey our expectations to the group and dwell on them for a couple of minutes. Normal expectations will b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An interactive session, active participation, no holding back from asking doubts, speak out any apprehens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D50B194-A00C-4F91-ABDB-40EA7821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0D78F12-7C71-4DD5-9AD6-7C24C3E8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-1077840" y="46080"/>
            <a:ext cx="9166320" cy="6873840"/>
          </a:xfrm>
          <a:prstGeom prst="rect">
            <a:avLst/>
          </a:prstGeom>
          <a:ln w="0">
            <a:noFill/>
          </a:ln>
        </p:spPr>
      </p:sp>
      <p:sp>
        <p:nvSpPr>
          <p:cNvPr id="1289" name="Text Box 3"/>
          <p:cNvSpPr/>
          <p:nvPr/>
        </p:nvSpPr>
        <p:spPr>
          <a:xfrm>
            <a:off x="187920" y="6978600"/>
            <a:ext cx="884304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7480" tIns="86400" bIns="864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Ensure early involvement by asking people for their expectat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Remove the word training from the slid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Convey our expectations to the group and dwell on them for a couple of minutes. Normal expectations will b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An interactive session, active participation, no holding back from asking doubts, speak out any apprehens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78203A-A10C-4331-8152-4B7F80A4A7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9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F48783E-E3A7-46C4-82A6-B6E86402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1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AA12361-7FB2-4D33-8017-C2FCECAB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7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210429A-7468-41F2-8DB5-E3A0E350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41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DD3E17F-DE44-42D3-9C86-E71C6F70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F962A09-AB19-4EBE-9001-CFE1DA07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237AC28-8893-4C84-A851-C0DF72B4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8E7639B-C225-46C9-994E-C7A3A54B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5A0BD0-C173-47B5-81A9-159ABDCC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9B7217-C444-41D1-9002-5F241BB8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24C20-0A93-4734-86FC-04CF3AA55E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540D9-224B-4241-9A7A-C25F65B99B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39A97-90B8-44B1-96F3-C3CC8A1446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FE77C-E7BC-46D4-AC10-C66B2B7CF2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4ABED-12B4-42C8-9D29-FD8EEEA498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87BD9-FB44-40AC-8EB3-DA75BE2574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76CF7-9576-4477-AD78-8AD5B8B7D5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749E5-4F9B-49C2-B7BC-0C87FCE8D2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9E5DD-7BAD-4651-89C4-A06E8C7540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0752A4-8E28-440C-9B06-3F65E5421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8BAEB-798C-42D6-BDA2-F98BDB1AE8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213F2-0597-447E-AEFD-0949621E61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48D144-D5D0-4D78-AC1E-C741B14244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8650F-5275-43C0-AA4E-4CCDC70A451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AC7F21-2514-4F2E-8DD2-F287AC32E7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68E68-CBAA-4A89-95F3-8903D7FE16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0B2F2-5BC6-4669-929F-9C985EEE54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A56C5-3DCB-42B2-85E4-921759946A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789814-D1F4-4623-B901-36FBBBBDC24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DCD3F-17C9-4221-89B8-EEBBFA850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B1036-1973-4877-813F-2C2947B0C0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32C3-DDE7-40D2-B519-4B02EEB40DA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1162E-F1EF-4176-A929-2DFC1D092B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2596-2E81-4C4C-9C65-11722555D4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66D3-BCEB-4B6B-A8A9-0D22E6198A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A0ED-66FE-40CE-802B-200E47E676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4074-1F82-40CB-9DF4-1A70B3AB31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2A9C-13A4-4A95-AF8B-21E4D2D842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D7D7-BCAE-41E1-9B17-B242FA0C0A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A420-4023-44C1-925A-A99177744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F12C-C9F4-4E15-90D6-23CE1A8EB47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B89FC-6A17-4018-8021-28AE1195F9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28D2-818C-4D7B-9C94-53070EC562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84F5D-6206-4332-A05A-5713AC3119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64B15-4D09-4C09-9341-2AA68C5AF9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9940A-9134-4B63-A672-FCF0D31D70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6B924-1036-43E6-A9C9-93BB55B87A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E1503-7B7B-4C61-8C22-DB9642EA4F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673A4-DA8F-4129-BA4D-A59616F2C8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82E33-9B36-4B6A-B982-C47C23858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888F4-AC36-4511-BE53-ABAFF28961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CED08-06AD-400D-B9B3-B9B4C81D8F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6FC14-1475-43E9-A66B-E67AB2155E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12A60-7098-470B-B22B-E33FE54C05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1707E-E7DB-491E-8B91-4E63119949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D0620F-981B-4307-8C58-0E0BD199D1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9DA1D-61D9-475D-8950-A1D3F0BC89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53CB5-0C46-4321-9015-B24F99091F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9319F-0735-4D25-B016-0717952DBC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6A9AE-C6D5-4025-B64B-D1E8C8701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03A555-FB2D-4BA3-AF04-9B3FE1C990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5927A-C316-447B-9ED6-5E422E8B80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458A9-AABB-4E99-889C-0093AFCF32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5CCA9-BF13-4EDF-93E7-90BB535CA1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CCC64E-34EE-4BEF-9301-77D4839AAC5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4E0E79-27AE-48C5-87A7-C6B28F1820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FF9964-8F73-4789-99C4-7A38F9EE341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E363-9CE0-4D2A-874F-55A2EF820B6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6D64-D719-454C-AC0F-51CD0D4C7C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5434-C62F-4851-BEF2-7C158E9F02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5480-3848-4283-AFFC-B4855CD2188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272E-8782-4777-AE14-0703B6886B5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11C0-DF39-4B76-BF60-BA33EED4630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0657-121F-4FF9-80D9-405D985634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2980-8A44-4658-A498-49FD06498B8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CEE9C-2741-4465-8BCA-EFAF48D9C1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0C98-9606-4592-9AD7-D4401CB9BE8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CABC-3C6F-46BD-8B3D-827682CEBD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07F80-AFD3-42CE-B742-E8FB0F15C61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F947F-8617-4DBA-BEF7-D8273F71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71691-F3A8-46FD-BB0C-6374A9F2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3BB7-96C6-4F9F-9842-DF404314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ACFE2-9E80-4AB7-997D-A8CF7919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508AA-33DD-4746-A4FA-FC282285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7086A-4780-42A3-9B1F-B2B1F0F8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E828B-170E-462F-9FAB-D23B6D9C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9463-A497-4BD6-9D53-FF8B9B9A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F657-7BF0-4266-ADD2-EC7AC84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52D49-0D21-4088-AF6E-7F3C138C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0786-2CC6-4451-B0E2-09BADD6D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4561-D6E8-49A9-AE7F-81109E6E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8FBBB-2B23-4756-AA1A-B7BF877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39CD-26E2-43DA-8D9A-9202B84A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3A80-50A1-4E63-9093-DD2AF3E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232F1-A45C-4735-B489-09FFA5B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D9D9-983A-45A2-93DB-8E5C101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C731F-C487-45FB-A7A9-41A23C8D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A0189-74B0-4668-B3BA-C2D56CD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6AC43-05D6-4908-8B8F-A7E8E93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EC2B-CCEC-4943-9121-1E92F06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B0FC3-0ACB-450F-A238-B4DDA7AC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59842-E0AC-49D6-9B70-2E456E8F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C3241-E717-4FCE-92F6-44A49FCB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A3C71-95D6-4C48-9DE7-02B68FC9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89213-94C0-4987-9193-A90D290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5D275-6AC2-4F59-AE8F-A96214BB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B7D6-C87A-4EED-BD3E-289F17D3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4D250-8E22-4458-A33D-A6FF1C4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FFB5A-ACCB-4515-8FF5-282B3E7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DE240-8BE3-4D3B-8BAA-3B8D2C33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C3AD8-FE2D-4241-9431-96F94692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D5E81-D6EB-486C-8867-4357AB1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33FB5-E83C-40E1-942A-359418B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291B2-F045-4750-AA7E-67796251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C6588-AF59-4345-BFBA-8175DFB1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9CAA7-7306-469D-ACF5-6DCEB6BE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25815-0BFE-42C1-969F-1E9FBEE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213C9-D9FF-47EF-9115-875F964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FEDA3-1C71-4D09-B289-A2E0793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8C8B3-0FF6-47F2-AEB6-6F744FA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0CA1-F94B-4F9E-BCD0-1A3E531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50373-65C4-4073-849E-C0D9BCF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0916-00B5-4FDC-9EA2-9515294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E29B8-15C4-49F4-85B1-4084D05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E0475-5FDB-4742-92A7-383E9151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C8F89-3FC9-4D47-BC9C-AF47DF9D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EAF2-9893-4734-9999-F19AB605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057DC-4780-41F8-9325-236AC5FF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17677-5608-46D7-B9A9-319BA827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F62FB-1328-4A4F-B0B8-F834DEB6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3CB8-6385-4C90-BD17-D5DF6252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25024-0189-4FDF-872A-74E39FB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A4103-7F40-494E-951D-C5E138C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29223-7C5F-420C-BD55-E7F718E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44EDF-2618-489C-B9DB-ACA2092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F5C42-947E-4A9B-AC74-6940F93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2AD34-1743-46A1-963F-2873F8DD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19529-4F13-46C2-B721-FB0CD94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A6975-DBED-4F76-B7EB-28FBB784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A31EC-EDB3-409A-B026-363ED20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28689-3776-464A-9652-E5478C8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89DFD-646C-4A97-B346-CDE00E0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06836-96EE-43CB-B3BC-2E8FB548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3383A-718D-48C4-B336-842D1F7D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32C48-0D10-4264-870A-A6C076B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E200B-E58F-4668-B5CF-8406680D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CF9A3-5BC7-43FE-932B-0E47693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0CA1E-C74F-4060-BEF2-14B46F8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C9EFB-AD26-498A-B797-C9C2065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FEF03-1ED7-482F-8EDB-E704503B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D88EE-2A27-4EEA-BDA8-5514794D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29B23-1022-48D7-9CAB-3650AA60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4CD65-4AD8-4D15-890D-B9D4B91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2EF95-4AE5-4285-B741-3EE6398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F2A8D-D35A-4124-9B24-0E6D7A7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119B7-D2B0-4D69-BBCA-48B1B17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06364-F80E-476B-BC00-3B12492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BB189-341A-427F-A013-7408AD7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84EF4-73E7-4DB0-8DED-82520FA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CF813-C2C6-4371-AA37-65AD4F7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E1F7A-DA86-4035-92C0-71029EA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FF7A9-CD86-4E8D-AECE-75CCCBE4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81307-AB9D-4268-A3B1-5F9C71F5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8791E-4662-4DF5-8A6C-1D5053D2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E1A54-E91D-4302-80AC-11F47D3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B0C61-14BA-4A6B-8950-15DB049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17FD7-951B-4C20-A861-893A6EB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19707-D4F6-46C7-9CFC-A15E16CC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1E1EA-CD1E-4CE2-AF8A-C4F4C1E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62560-20D3-4BA2-8DCA-CAC760BF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A00AB-11B1-4E6C-B96C-56E6098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7D3E6-1EAA-40D1-9149-18A85BB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60F17-D1A3-443F-9165-CFECA2C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ECF93-93D4-4894-91BA-CC62245A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2CA65-12F5-44AD-BE95-48A9BF67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EB25-C2BE-4B7E-A5FA-5774EC4E25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131C-36C7-4CF5-B7AB-9FEC95C49F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18EE-B08F-430E-93F3-9266599BE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620A-3845-40B8-8C01-BBB150A0C5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0B93-D1C4-4FF1-A8FD-2460001FE6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66F6-1135-496D-8F01-2CF5910D62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588E-D925-4AEA-AA5E-120758D4E2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BC1D-B2BD-465E-A88F-37D75686C0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D1E3-643B-44A2-A8C2-149DDFBC18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ABC6-ECE0-4392-BEEE-017F8279EF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C91A-1179-43BA-B0D7-336AD52707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66C9-5F1D-4DF4-9B16-4626D1BEC7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A1D-D36D-4C30-99DD-3D021B0B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47C-4F34-4314-8BAD-7928E3DE45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07F-DD81-454D-848F-F05CF6003B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7DE-5446-4788-8C86-E616FC4299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046-D704-4DC9-A609-104DF0C826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CB1-E8DD-40DD-81EA-9E1B279BF3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AE4-2715-43DE-8C08-93796CA35D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A88-F9AD-4A0B-9FC4-648A1748E9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DCA-21B4-4D5D-91D8-4A82FC3B3D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97F-B51C-485F-84E3-C4D5B0360E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1B2-1E4C-49B7-9379-3A27D1E02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4A7-0320-4671-A872-E20ADB10D0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7506-227B-4F0E-B8FF-E19010B99D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22CC0-7585-43DA-94CD-5FD0D6D67F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A58D-2CC8-4F3D-8999-685B2DA2C5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3674-ABA3-4DFA-9323-BBB5B95A50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BEDE-F3E3-4A1D-8780-802EC17166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E8B2C-2EDA-4FE6-BE62-FD5C284677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280E-0D52-4891-835F-2A484B9570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C24A5-F908-459B-AFFA-14A0548D94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7A878-7181-4F20-9C48-8DEC1D5E3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57E9B-039F-4105-A18E-C7620BF332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C0AC-6E67-43FE-AC38-BB11491F7C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ED21A-98FF-4E96-B2C5-9CC190406A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B9A64-6E88-4004-A012-63CFE560D4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F0A7F-F6CB-4C5F-A7AC-0A8C527EC4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D98B5-3A47-4EED-A6DC-41607F837A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7925E-206D-4DE3-99E2-0075CDD576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B1FC7-CA2D-43C6-8BD5-D29FB57A5CD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9E3C8-5FF6-4CD6-9772-36600A3F8F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B8A5C-9ADF-4214-A0D1-C099581F4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7C5A2-2148-4657-A05A-594C7F96279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B0A88-AB36-4F66-A272-55246186CD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7BCAC-03EE-436E-B0BD-3D0C755806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D8211-F2F2-425E-834B-6761211243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4FCF3-B1B7-404D-86E1-140379DF6A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3437-2100-45D1-A2EF-7596021C9F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4310-9D27-47C5-9A44-38C23E2CA5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7BFB-F72B-4EA7-8082-52E8B6B073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9D32-A2DC-411D-B89E-F421AC077E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0535-A1A8-4BFB-BF0A-927895432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8E19-8E7D-465A-83AA-424E65EB026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FB53-680D-4E23-9129-6B83E21FAFF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1BAA-5B3C-4401-8561-A04AC56C95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0494-192F-4D11-AE97-B5918E4344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0217-89E9-48DD-9BBB-15354740A5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93E9-46E8-4D48-B7D1-394901BF84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0EA6-36B4-4571-8F3B-C3989DCD68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94B3A-1EFC-499D-8368-BD287A1550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196DF-74B4-43E9-9831-1F0177450B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71D0C-5364-4F04-9894-45D27ABF0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pic>
        <p:nvPicPr>
          <p:cNvPr id="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F1EBDE0F-D123-4774-8606-8280F03A42DB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383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03FF886E-F548-4C83-949A-87D5AD026069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3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778ECE-B0AD-4071-B9A2-085E8DBA0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26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9E0596C8-C536-4DB3-A225-A03D80D60153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5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5858C2-FFDE-414C-A652-9576288CD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6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69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97EA3EE3-36FB-47F3-BB1F-7AC14F633C31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7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BEDAFD-4150-4B0D-99C6-435AFC3D1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8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1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2F64C6A8-627B-4151-8197-44E93E6663E6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19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4F77A3-3463-4C0B-95EF-6ABCE599A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5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05CDD71E-095D-49B1-B55D-C3909366B127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2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EB720D-D579-4A68-9252-F673D43D3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9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B9389987-407C-4A95-A10D-DB4544FF3767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5813280" y="6338880"/>
            <a:ext cx="3187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3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64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E3F3B29-DC71-444E-95D2-6DFB81351FCB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23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24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64723E-D420-4672-A8BF-41F99D054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25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68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F8E867C2-46AB-4654-9B46-F243978789C8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6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7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8DBAF4-740A-4D58-8ED7-FB64A9DB3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ftr" idx="28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72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C829E9A9-FA6D-4344-8CF0-F32BC096BAE5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29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30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9E5235-DF2E-4955-88C1-37047699A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ftr" idx="31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BBBD7CDA-BBBE-4AA7-B02E-AE34D1CB3EB7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2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8F5E0E-216F-41AD-B30A-E66272156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34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4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5719158E-629D-4550-89AF-ECC5FE602D28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16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61F572F-853D-420D-9828-1D025A54904F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5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6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AC94E3-2A0F-419C-8085-AB19A2B26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ftr" idx="37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6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ABA61E54-12C1-408A-98BD-5C77B2D8F81F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8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sldNum" idx="39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846735-C984-41BF-BBA7-94349A54A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ftr" idx="40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0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BEE51423-D66F-4792-A5E9-3CAF8ECE4181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1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42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5F2420-73D1-4644-A342-90F0DCE11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ftr" idx="43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4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5038E762-4E88-41B6-8840-1CA2087A0D73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4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5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FA72FC-A2BE-4EB2-A430-65F47C02C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ftr" idx="46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9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A87CE455-DB50-405E-B814-DBAE11FFA2BA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3" name="Text Box 2"/>
          <p:cNvSpPr/>
          <p:nvPr/>
        </p:nvSpPr>
        <p:spPr>
          <a:xfrm>
            <a:off x="5813280" y="6338880"/>
            <a:ext cx="3187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3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DD501007-AA27-4DBD-996B-3C2A042671C8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12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02FDD1EC-DB30-486E-BEEF-751517C64F71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09590D-8A4D-4922-865C-4C4801784A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16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7CE62BB0-78B2-4794-8CE2-B771F9A03C0F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3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2238BC-ED24-4AEF-A140-9672E1C785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4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11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238BBF32-0274-4CFC-979D-B4F91136CBB5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B6A53A-4954-475E-ABAB-2645EA3F9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6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5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9969C07B-2018-47DF-A058-AF0B5357FDBC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E9C01B-BE91-4435-8F3D-332A8C1F0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97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C2A44979-4943-4694-8591-4E2B39217EE9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0C1262-6462-497A-BD00-974112138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0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1444A855-2A38-434F-B6D4-90555DEEF25E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EC116A-D92B-4836-85D9-9553D37CF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72"/>
          <p:cNvSpPr/>
          <p:nvPr/>
        </p:nvSpPr>
        <p:spPr>
          <a:xfrm>
            <a:off x="84240" y="650880"/>
            <a:ext cx="90597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  <a:ea typeface="Arial"/>
              </a:rPr>
              <a:t>Course: 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Arial"/>
                <a:ea typeface="Arial"/>
              </a:rPr>
              <a:t>Government Process Re-engineering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Day 2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78" name="Text Box 72"/>
          <p:cNvSpPr/>
          <p:nvPr/>
        </p:nvSpPr>
        <p:spPr>
          <a:xfrm>
            <a:off x="84240" y="5008680"/>
            <a:ext cx="9059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llecting Data for Process Mapping</a:t>
            </a:r>
            <a:endParaRPr b="0" lang="en-US" sz="3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es of data collected in e-Governance project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21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Time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 value added, cycle, waiting, productive / non-productiv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Volumes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 transactions / day, units / hour, % of each categor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Rates or Costs - computed, fixed, per uni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Equipment Used - cos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Value Added - real value, business value, no-valu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ifying the type of data being collected (1/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2819520" y="2143080"/>
            <a:ext cx="5894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nything that can be measured on a infinitely divisible continuum or scale and can take up any real number value (at least in principle)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mperature, Cycle time of process, Cost, TPH etc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614520" y="2703600"/>
            <a:ext cx="1766880" cy="666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0a14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9" name="Left Brace 8"/>
          <p:cNvSpPr/>
          <p:nvPr/>
        </p:nvSpPr>
        <p:spPr>
          <a:xfrm>
            <a:off x="2381400" y="1785960"/>
            <a:ext cx="438120" cy="2571840"/>
          </a:xfrm>
          <a:custGeom>
            <a:avLst/>
            <a:gdLst>
              <a:gd name="textAreaLeft" fmla="*/ 280080 w 438120"/>
              <a:gd name="textAreaRight" fmla="*/ 438480 w 438120"/>
              <a:gd name="textAreaTop" fmla="*/ 11160 h 2571840"/>
              <a:gd name="textAreaBottom" fmla="*/ 256068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b0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ifying the type of data being collected (2/2) 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636480" y="2727360"/>
            <a:ext cx="1765440" cy="1117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0a14"/>
                </a:solidFill>
                <a:latin typeface="Arial"/>
              </a:rPr>
              <a:t>Attribute or Discrete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895480" y="1652760"/>
            <a:ext cx="589464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nything that can be sorted into distinct, separate, non-overlapping categories or designated as either/or, or takes up certain values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iscrete data can be attribute data (% occurrences), count data(no of defects per 50 invoices) or ordered categories (excellent, good, fair, poor)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ay of the week (M/T/W/Th/F/Sa/Su)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fect/No Defect, Off/On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Number of stoppage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senteeism (Absent / Present)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3" name="Left Brace 9"/>
          <p:cNvSpPr/>
          <p:nvPr/>
        </p:nvSpPr>
        <p:spPr>
          <a:xfrm>
            <a:off x="2381400" y="1652760"/>
            <a:ext cx="438120" cy="3587400"/>
          </a:xfrm>
          <a:custGeom>
            <a:avLst/>
            <a:gdLst>
              <a:gd name="textAreaLeft" fmla="*/ 280080 w 438120"/>
              <a:gd name="textAreaRight" fmla="*/ 438480 w 438120"/>
              <a:gd name="textAreaTop" fmla="*/ 11160 h 3587400"/>
              <a:gd name="textAreaBottom" fmla="*/ 3576240 h 358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b0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ata collection methodology (1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59840" y="1752480"/>
            <a:ext cx="8821800" cy="27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15280" indent="-2152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1: Design the data collection pla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data needs to be collected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Design appropriate template (include desired data formats)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is the period/ sample size for data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clearly specify what will qualify as a valid sampl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o will collect the data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assign clear responsibilitie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are the valid data sources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seek agreement from stakeholder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ata collection methodology (2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2: Deplo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early articulate the expectations and requirements to the data collector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Give sample data formats, if require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Review the first few data points collected to ensure data collection is as per the requirement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22212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3: Review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heck the data for integrity, accuracy and sufficienc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pling – Means for data collection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159840" y="133164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ampling is a process of collecting only a portion of the data that is available or could be available and using the data in sample to draw conclusions (statistical inference)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y Sampling?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It is often impractical or too costly to collect the data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ound conclusion can often be made from a relatively small amount of data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ome time data collection is a destructive proces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ampling provides a ”snapshot” of the process or population at a given point of tim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pling in real life … a visit to a Mithai shop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en we go to a mithai shop, most of us taste a little bite of the mithai. Why do we sample the mithai?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assume that the entire mithai is made from one base and so if we sample a bit, we can be reasonably sure about the taste of the entire half a kg or one kg of mithai that we want to buy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take a small sample because the mithai wala won’t allow us to taste the entire mithai before hand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do similar samplings day on day in our lives 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Arial"/>
              </a:rPr>
              <a:t>Introduction to Process Mapping Tool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9840" y="1752120"/>
            <a:ext cx="88218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24720" indent="-3247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t the simplest level, Pen &amp; Paper is all that is required to do flowchart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Initially, stencils were available for draw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 stencil can be used if availabl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lternately, we can also draw freehan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24720" indent="-3247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 fairly common practice in process mapping is to draw individual items on post-It notes and attach them to a char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his enables the items to be moved around without having to do a lot of rework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cess Mapping using Tool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9840" y="1363320"/>
            <a:ext cx="8821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Practically any software with graphical capabilities can be used to generate flowcharts. For example, in MS Office, we can generate flowcharts i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Exc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PowerPoin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Vision is a dedicated graphing software that can also be used to advanced graphing and additional report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ther similar (free) applications on the Windows platform includ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ia 0.96: Dia is designed to be much like the Windows program 'Visio'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9840" y="382320"/>
            <a:ext cx="89838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usiness Process Management (BPM) tools for process mapping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60200" y="1363320"/>
            <a:ext cx="44402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BPM tools help organizations to have a holistic view of processes and to intelligently guide, automate, and optimize business processe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 BPM solution enables decoupling of processes, rules, data, and applications while minimally impacting legacy systems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utomation and streamlining the processes; from processing an online order to approving a mortgage application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e process execution engine needed to manage user workflows, data integration, and track or report process data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Key vendors of BPM tools include Savvion, Lombardi &amp; Ultimu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68" name="AutoShape 5"/>
          <p:cNvSpPr/>
          <p:nvPr/>
        </p:nvSpPr>
        <p:spPr>
          <a:xfrm>
            <a:off x="616896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Policy Admin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9" name="AutoShape 6"/>
          <p:cNvSpPr/>
          <p:nvPr/>
        </p:nvSpPr>
        <p:spPr>
          <a:xfrm>
            <a:off x="696924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0" name="AutoShape 7"/>
          <p:cNvSpPr/>
          <p:nvPr/>
        </p:nvSpPr>
        <p:spPr>
          <a:xfrm>
            <a:off x="781200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laim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1" name="AutoShape 8"/>
          <p:cNvSpPr/>
          <p:nvPr/>
        </p:nvSpPr>
        <p:spPr>
          <a:xfrm>
            <a:off x="5748480" y="4143240"/>
            <a:ext cx="3031920" cy="619200"/>
          </a:xfrm>
          <a:prstGeom prst="flowChartAlternateProcess">
            <a:avLst/>
          </a:prstGeom>
          <a:gradFill rotWithShape="0">
            <a:gsLst>
              <a:gs pos="0">
                <a:srgbClr val="fb3d32"/>
              </a:gs>
              <a:gs pos="50000">
                <a:srgbClr val="fd8b84"/>
              </a:gs>
              <a:gs pos="100000">
                <a:srgbClr val="fb3d32"/>
              </a:gs>
            </a:gsLst>
            <a:lin ang="5400000"/>
          </a:gradFill>
          <a:ln w="9360">
            <a:solidFill>
              <a:srgbClr val="7b0a14"/>
            </a:solidFill>
            <a:miter/>
          </a:ln>
          <a:effectLst>
            <a:outerShdw dist="107932" dir="2700000" blurRad="0" rotWithShape="0">
              <a:srgbClr val="bf050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BPM Engin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72" name="Group 9"/>
          <p:cNvGrpSpPr/>
          <p:nvPr/>
        </p:nvGrpSpPr>
        <p:grpSpPr>
          <a:xfrm>
            <a:off x="5840280" y="3057480"/>
            <a:ext cx="637920" cy="577440"/>
            <a:chOff x="5840280" y="3057480"/>
            <a:chExt cx="637920" cy="577440"/>
          </a:xfrm>
        </p:grpSpPr>
        <p:sp>
          <p:nvSpPr>
            <p:cNvPr id="1173" name="AutoShape 10"/>
            <p:cNvSpPr/>
            <p:nvPr/>
          </p:nvSpPr>
          <p:spPr>
            <a:xfrm>
              <a:off x="584028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74" name="AutoShape 11"/>
            <p:cNvSpPr/>
            <p:nvPr/>
          </p:nvSpPr>
          <p:spPr>
            <a:xfrm>
              <a:off x="6044400" y="3216960"/>
              <a:ext cx="19476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75" name="AutoShape 12"/>
            <p:cNvSpPr/>
            <p:nvPr/>
          </p:nvSpPr>
          <p:spPr>
            <a:xfrm>
              <a:off x="627408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76" name="AutoShape 13"/>
            <p:cNvCxnSpPr>
              <a:stCxn id="1173" idx="2"/>
              <a:endCxn id="1174" idx="1"/>
            </p:cNvCxnSpPr>
            <p:nvPr/>
          </p:nvCxnSpPr>
          <p:spPr>
            <a:xfrm flipH="1" rot="16200000">
              <a:off x="594828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77" name="AutoShape 14"/>
            <p:cNvCxnSpPr>
              <a:stCxn id="1174" idx="2"/>
              <a:endCxn id="1175" idx="1"/>
            </p:cNvCxnSpPr>
            <p:nvPr/>
          </p:nvCxnSpPr>
          <p:spPr>
            <a:xfrm flipH="1" rot="16200000">
              <a:off x="6129720" y="3411000"/>
              <a:ext cx="157680" cy="13248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78" name="AutoShape 15"/>
            <p:cNvSpPr/>
            <p:nvPr/>
          </p:nvSpPr>
          <p:spPr>
            <a:xfrm>
              <a:off x="627408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79" name="AutoShape 16"/>
            <p:cNvCxnSpPr>
              <a:stCxn id="1178" idx="1"/>
              <a:endCxn id="1174" idx="3"/>
            </p:cNvCxnSpPr>
            <p:nvPr/>
          </p:nvCxnSpPr>
          <p:spPr>
            <a:xfrm rot="10800000">
              <a:off x="6238440" y="3306960"/>
              <a:ext cx="35640" cy="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sp>
        <p:nvSpPr>
          <p:cNvPr id="1180" name="Text Box 17"/>
          <p:cNvSpPr/>
          <p:nvPr/>
        </p:nvSpPr>
        <p:spPr>
          <a:xfrm>
            <a:off x="5649840" y="3701880"/>
            <a:ext cx="107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Enrollment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81" name="Text Box 18"/>
          <p:cNvSpPr/>
          <p:nvPr/>
        </p:nvSpPr>
        <p:spPr>
          <a:xfrm>
            <a:off x="6727680" y="3701880"/>
            <a:ext cx="107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Underwriting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7718400" y="3701880"/>
            <a:ext cx="107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laim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183" name="Picture 20" descr="operator"/>
          <p:cNvPicPr/>
          <p:nvPr/>
        </p:nvPicPr>
        <p:blipFill>
          <a:blip r:embed="rId1"/>
          <a:stretch/>
        </p:blipFill>
        <p:spPr>
          <a:xfrm>
            <a:off x="6051600" y="15685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1" descr="j0402336"/>
          <p:cNvPicPr/>
          <p:nvPr/>
        </p:nvPicPr>
        <p:blipFill>
          <a:blip r:embed="rId2"/>
          <a:stretch/>
        </p:blipFill>
        <p:spPr>
          <a:xfrm>
            <a:off x="6959520" y="1636560"/>
            <a:ext cx="368280" cy="552600"/>
          </a:xfrm>
          <a:prstGeom prst="rect">
            <a:avLst/>
          </a:prstGeom>
          <a:ln w="0">
            <a:noFill/>
          </a:ln>
        </p:spPr>
      </p:pic>
      <p:grpSp>
        <p:nvGrpSpPr>
          <p:cNvPr id="1185" name="Group 22"/>
          <p:cNvGrpSpPr/>
          <p:nvPr/>
        </p:nvGrpSpPr>
        <p:grpSpPr>
          <a:xfrm>
            <a:off x="6818400" y="3057480"/>
            <a:ext cx="637920" cy="577440"/>
            <a:chOff x="6818400" y="3057480"/>
            <a:chExt cx="637920" cy="577440"/>
          </a:xfrm>
        </p:grpSpPr>
        <p:sp>
          <p:nvSpPr>
            <p:cNvPr id="1186" name="AutoShape 23"/>
            <p:cNvSpPr/>
            <p:nvPr/>
          </p:nvSpPr>
          <p:spPr>
            <a:xfrm>
              <a:off x="681840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87" name="AutoShape 24"/>
            <p:cNvSpPr/>
            <p:nvPr/>
          </p:nvSpPr>
          <p:spPr>
            <a:xfrm>
              <a:off x="7022520" y="3216960"/>
              <a:ext cx="19440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88" name="AutoShape 25"/>
            <p:cNvSpPr/>
            <p:nvPr/>
          </p:nvSpPr>
          <p:spPr>
            <a:xfrm>
              <a:off x="725220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89" name="AutoShape 26"/>
            <p:cNvCxnSpPr>
              <a:stCxn id="1186" idx="2"/>
              <a:endCxn id="1187" idx="1"/>
            </p:cNvCxnSpPr>
            <p:nvPr/>
          </p:nvCxnSpPr>
          <p:spPr>
            <a:xfrm flipH="1" rot="16200000">
              <a:off x="692640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90" name="AutoShape 27"/>
            <p:cNvCxnSpPr>
              <a:stCxn id="1187" idx="2"/>
              <a:endCxn id="1188" idx="1"/>
            </p:cNvCxnSpPr>
            <p:nvPr/>
          </p:nvCxnSpPr>
          <p:spPr>
            <a:xfrm flipH="1" rot="16200000">
              <a:off x="7106760" y="3411360"/>
              <a:ext cx="157680" cy="13212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91" name="AutoShape 28"/>
            <p:cNvSpPr/>
            <p:nvPr/>
          </p:nvSpPr>
          <p:spPr>
            <a:xfrm>
              <a:off x="725220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92" name="AutoShape 29"/>
            <p:cNvCxnSpPr>
              <a:stCxn id="1191" idx="1"/>
              <a:endCxn id="1187" idx="3"/>
            </p:cNvCxnSpPr>
            <p:nvPr/>
          </p:nvCxnSpPr>
          <p:spPr>
            <a:xfrm rot="10800000">
              <a:off x="7216560" y="3306960"/>
              <a:ext cx="35280" cy="1440"/>
            </a:xfrm>
            <a:prstGeom prst="bentConnector3">
              <a:avLst>
                <a:gd name="adj1" fmla="val 49484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grpSp>
        <p:nvGrpSpPr>
          <p:cNvPr id="1193" name="Group 30"/>
          <p:cNvGrpSpPr/>
          <p:nvPr/>
        </p:nvGrpSpPr>
        <p:grpSpPr>
          <a:xfrm>
            <a:off x="7805880" y="3057480"/>
            <a:ext cx="637920" cy="577440"/>
            <a:chOff x="7805880" y="3057480"/>
            <a:chExt cx="637920" cy="577440"/>
          </a:xfrm>
        </p:grpSpPr>
        <p:sp>
          <p:nvSpPr>
            <p:cNvPr id="1194" name="AutoShape 31"/>
            <p:cNvSpPr/>
            <p:nvPr/>
          </p:nvSpPr>
          <p:spPr>
            <a:xfrm>
              <a:off x="780588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95" name="AutoShape 32"/>
            <p:cNvSpPr/>
            <p:nvPr/>
          </p:nvSpPr>
          <p:spPr>
            <a:xfrm>
              <a:off x="8010000" y="3216960"/>
              <a:ext cx="19440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96" name="AutoShape 33"/>
            <p:cNvSpPr/>
            <p:nvPr/>
          </p:nvSpPr>
          <p:spPr>
            <a:xfrm>
              <a:off x="823968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97" name="AutoShape 34"/>
            <p:cNvCxnSpPr>
              <a:stCxn id="1194" idx="2"/>
              <a:endCxn id="1195" idx="1"/>
            </p:cNvCxnSpPr>
            <p:nvPr/>
          </p:nvCxnSpPr>
          <p:spPr>
            <a:xfrm flipH="1" rot="16200000">
              <a:off x="791388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98" name="AutoShape 35"/>
            <p:cNvCxnSpPr>
              <a:stCxn id="1195" idx="2"/>
              <a:endCxn id="1196" idx="1"/>
            </p:cNvCxnSpPr>
            <p:nvPr/>
          </p:nvCxnSpPr>
          <p:spPr>
            <a:xfrm flipH="1" rot="16200000">
              <a:off x="8094240" y="3411360"/>
              <a:ext cx="157680" cy="13212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99" name="AutoShape 36"/>
            <p:cNvSpPr/>
            <p:nvPr/>
          </p:nvSpPr>
          <p:spPr>
            <a:xfrm>
              <a:off x="823968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00" name="AutoShape 37"/>
            <p:cNvCxnSpPr>
              <a:stCxn id="1199" idx="1"/>
              <a:endCxn id="1195" idx="3"/>
            </p:cNvCxnSpPr>
            <p:nvPr/>
          </p:nvCxnSpPr>
          <p:spPr>
            <a:xfrm rot="10800000">
              <a:off x="8204040" y="3306960"/>
              <a:ext cx="35280" cy="1440"/>
            </a:xfrm>
            <a:prstGeom prst="bentConnector3">
              <a:avLst>
                <a:gd name="adj1" fmla="val 49484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pic>
        <p:nvPicPr>
          <p:cNvPr id="1201" name="Picture 38" descr="j0285750"/>
          <p:cNvPicPr/>
          <p:nvPr/>
        </p:nvPicPr>
        <p:blipFill>
          <a:blip r:embed="rId3"/>
          <a:stretch/>
        </p:blipFill>
        <p:spPr>
          <a:xfrm>
            <a:off x="7618320" y="1592280"/>
            <a:ext cx="895320" cy="55260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39"/>
          <p:cNvSpPr/>
          <p:nvPr/>
        </p:nvSpPr>
        <p:spPr>
          <a:xfrm>
            <a:off x="763272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3" name="Text Box 40"/>
          <p:cNvSpPr/>
          <p:nvPr/>
        </p:nvSpPr>
        <p:spPr>
          <a:xfrm rot="16200000">
            <a:off x="4974480" y="522324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Legacy Environment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4" name="Text Box 41"/>
          <p:cNvSpPr/>
          <p:nvPr/>
        </p:nvSpPr>
        <p:spPr>
          <a:xfrm rot="16200000">
            <a:off x="4974480" y="327852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Business Processes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5" name="Text Box 42"/>
          <p:cNvSpPr/>
          <p:nvPr/>
        </p:nvSpPr>
        <p:spPr>
          <a:xfrm rot="16200000">
            <a:off x="5056200" y="1839240"/>
            <a:ext cx="91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Channels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cxnSp>
        <p:nvCxnSpPr>
          <p:cNvPr id="1206" name="AutoShape 43"/>
          <p:cNvCxnSpPr>
            <a:stCxn id="1171" idx="2"/>
            <a:endCxn id="1168" idx="1"/>
          </p:cNvCxnSpPr>
          <p:nvPr/>
        </p:nvCxnSpPr>
        <p:spPr>
          <a:xfrm rot="5400000">
            <a:off x="6671520" y="4554000"/>
            <a:ext cx="384840" cy="801000"/>
          </a:xfrm>
          <a:prstGeom prst="bentConnector3">
            <a:avLst>
              <a:gd name="adj1" fmla="val 50000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7" name="AutoShape 44"/>
          <p:cNvCxnSpPr>
            <a:stCxn id="1171" idx="2"/>
            <a:endCxn id="1169" idx="1"/>
          </p:cNvCxnSpPr>
          <p:nvPr/>
        </p:nvCxnSpPr>
        <p:spPr>
          <a:xfrm flipH="1">
            <a:off x="7263720" y="4762080"/>
            <a:ext cx="1080" cy="384840"/>
          </a:xfrm>
          <a:prstGeom prst="straightConnector1">
            <a:avLst/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8" name="AutoShape 45"/>
          <p:cNvCxnSpPr>
            <a:stCxn id="1171" idx="2"/>
            <a:endCxn id="1170" idx="1"/>
          </p:cNvCxnSpPr>
          <p:nvPr/>
        </p:nvCxnSpPr>
        <p:spPr>
          <a:xfrm flipH="1" rot="16200000">
            <a:off x="7492680" y="4532760"/>
            <a:ext cx="384840" cy="843480"/>
          </a:xfrm>
          <a:prstGeom prst="bentConnector3">
            <a:avLst>
              <a:gd name="adj1" fmla="val 50000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9" name="AutoShape 46"/>
          <p:cNvCxnSpPr>
            <a:stCxn id="1180" idx="2"/>
            <a:endCxn id="1171" idx="0"/>
          </p:cNvCxnSpPr>
          <p:nvPr/>
        </p:nvCxnSpPr>
        <p:spPr>
          <a:xfrm flipH="1" rot="16200000">
            <a:off x="6581880" y="3461400"/>
            <a:ext cx="289440" cy="107532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0" name="AutoShape 47"/>
          <p:cNvCxnSpPr>
            <a:stCxn id="1181" idx="2"/>
            <a:endCxn id="1171" idx="0"/>
          </p:cNvCxnSpPr>
          <p:nvPr/>
        </p:nvCxnSpPr>
        <p:spPr>
          <a:xfrm rot="5400000">
            <a:off x="7120800" y="3997080"/>
            <a:ext cx="289440" cy="396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1" name="AutoShape 48"/>
          <p:cNvCxnSpPr>
            <a:stCxn id="1182" idx="2"/>
            <a:endCxn id="1171" idx="0"/>
          </p:cNvCxnSpPr>
          <p:nvPr/>
        </p:nvCxnSpPr>
        <p:spPr>
          <a:xfrm rot="5400000">
            <a:off x="7616520" y="3502080"/>
            <a:ext cx="289440" cy="99396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2" name="Text Box 49"/>
          <p:cNvSpPr/>
          <p:nvPr/>
        </p:nvSpPr>
        <p:spPr>
          <a:xfrm>
            <a:off x="668016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Agency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13" name="Text Box 50"/>
          <p:cNvSpPr/>
          <p:nvPr/>
        </p:nvSpPr>
        <p:spPr>
          <a:xfrm>
            <a:off x="588816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all Center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14" name="AutoShape 51"/>
          <p:cNvSpPr/>
          <p:nvPr/>
        </p:nvSpPr>
        <p:spPr>
          <a:xfrm>
            <a:off x="6045120" y="2519280"/>
            <a:ext cx="2211480" cy="401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dddddd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215" name="Picture 54" descr="j0311328"/>
          <p:cNvPicPr/>
          <p:nvPr/>
        </p:nvPicPr>
        <p:blipFill>
          <a:blip r:embed="rId4"/>
          <a:stretch/>
        </p:blipFill>
        <p:spPr>
          <a:xfrm>
            <a:off x="7953480" y="4213080"/>
            <a:ext cx="307800" cy="349560"/>
          </a:xfrm>
          <a:prstGeom prst="rect">
            <a:avLst/>
          </a:prstGeom>
          <a:ln w="0">
            <a:noFill/>
          </a:ln>
        </p:spPr>
      </p:pic>
      <p:grpSp>
        <p:nvGrpSpPr>
          <p:cNvPr id="1216" name="Group 55"/>
          <p:cNvGrpSpPr/>
          <p:nvPr/>
        </p:nvGrpSpPr>
        <p:grpSpPr>
          <a:xfrm>
            <a:off x="6119640" y="4210200"/>
            <a:ext cx="412920" cy="374400"/>
            <a:chOff x="6119640" y="4210200"/>
            <a:chExt cx="412920" cy="374400"/>
          </a:xfrm>
        </p:grpSpPr>
        <p:sp>
          <p:nvSpPr>
            <p:cNvPr id="1217" name="AutoShape 56"/>
            <p:cNvSpPr/>
            <p:nvPr/>
          </p:nvSpPr>
          <p:spPr>
            <a:xfrm>
              <a:off x="6119640" y="421020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218" name="AutoShape 57"/>
            <p:cNvSpPr/>
            <p:nvPr/>
          </p:nvSpPr>
          <p:spPr>
            <a:xfrm>
              <a:off x="6251760" y="4313520"/>
              <a:ext cx="126000" cy="11772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219" name="AutoShape 58"/>
            <p:cNvSpPr/>
            <p:nvPr/>
          </p:nvSpPr>
          <p:spPr>
            <a:xfrm>
              <a:off x="6400440" y="448128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20" name="AutoShape 59"/>
            <p:cNvCxnSpPr>
              <a:stCxn id="1217" idx="2"/>
              <a:endCxn id="1218" idx="1"/>
            </p:cNvCxnSpPr>
            <p:nvPr/>
          </p:nvCxnSpPr>
          <p:spPr>
            <a:xfrm flipH="1" rot="16200000">
              <a:off x="6189120" y="4309560"/>
              <a:ext cx="59400" cy="66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221" name="AutoShape 60"/>
            <p:cNvCxnSpPr>
              <a:stCxn id="1218" idx="2"/>
              <a:endCxn id="1219" idx="1"/>
            </p:cNvCxnSpPr>
            <p:nvPr/>
          </p:nvCxnSpPr>
          <p:spPr>
            <a:xfrm flipH="1" rot="16200000">
              <a:off x="6306480" y="4439160"/>
              <a:ext cx="102600" cy="8568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222" name="AutoShape 61"/>
            <p:cNvSpPr/>
            <p:nvPr/>
          </p:nvSpPr>
          <p:spPr>
            <a:xfrm>
              <a:off x="6400440" y="432108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23" name="AutoShape 62"/>
            <p:cNvCxnSpPr>
              <a:stCxn id="1222" idx="1"/>
              <a:endCxn id="1218" idx="3"/>
            </p:cNvCxnSpPr>
            <p:nvPr/>
          </p:nvCxnSpPr>
          <p:spPr>
            <a:xfrm rot="10800000">
              <a:off x="6377040" y="4371840"/>
              <a:ext cx="23040" cy="1080"/>
            </a:xfrm>
            <a:prstGeom prst="bentConnector3">
              <a:avLst>
                <a:gd name="adj1" fmla="val 49206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sp>
        <p:nvSpPr>
          <p:cNvPr id="1224" name="Text Box 63"/>
          <p:cNvSpPr/>
          <p:nvPr/>
        </p:nvSpPr>
        <p:spPr>
          <a:xfrm>
            <a:off x="7827840" y="4584600"/>
            <a:ext cx="47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b0a14"/>
                </a:solidFill>
                <a:latin typeface="Arial"/>
              </a:rPr>
              <a:t>Rule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5" name="Text Box 64"/>
          <p:cNvSpPr/>
          <p:nvPr/>
        </p:nvSpPr>
        <p:spPr>
          <a:xfrm>
            <a:off x="5998320" y="4584600"/>
            <a:ext cx="69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b0a14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62000" y="1752120"/>
            <a:ext cx="88041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y is data required for GPR?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nderstand the types of data relevant to the proces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Learn how to identify which data to collec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nderstand sampling and other data collection techniqu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1081" name="Picture 2" descr=""/>
          <p:cNvPicPr/>
          <p:nvPr/>
        </p:nvPicPr>
        <p:blipFill>
          <a:blip r:embed="rId1"/>
          <a:stretch/>
        </p:blipFill>
        <p:spPr>
          <a:xfrm>
            <a:off x="6953400" y="22860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62000" y="49356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to collect data? (1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083" name="Picture 2" descr="HIJUMP"/>
          <p:cNvPicPr/>
          <p:nvPr/>
        </p:nvPicPr>
        <p:blipFill>
          <a:blip r:embed="rId1"/>
          <a:stretch/>
        </p:blipFill>
        <p:spPr>
          <a:xfrm>
            <a:off x="1319040" y="1609560"/>
            <a:ext cx="6504120" cy="4335480"/>
          </a:xfrm>
          <a:prstGeom prst="rect">
            <a:avLst/>
          </a:prstGeom>
          <a:ln w="0">
            <a:noFill/>
          </a:ln>
        </p:spPr>
      </p:pic>
      <p:sp>
        <p:nvSpPr>
          <p:cNvPr id="1084" name="Text Box 8"/>
          <p:cNvSpPr/>
          <p:nvPr/>
        </p:nvSpPr>
        <p:spPr>
          <a:xfrm>
            <a:off x="458640" y="4199040"/>
            <a:ext cx="81378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Focused gets Measur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Measured gets Achiev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Achieved gets Recognis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Recognised gets Institutionalis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to collect data? (2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86" name="Content Placeholder 9"/>
          <p:cNvSpPr/>
          <p:nvPr/>
        </p:nvSpPr>
        <p:spPr>
          <a:xfrm>
            <a:off x="160200" y="1666800"/>
            <a:ext cx="88218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9200" indent="-349200">
              <a:lnSpc>
                <a:spcPct val="120000"/>
              </a:lnSpc>
              <a:buClr>
                <a:srgbClr val="1c1c1c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ata is used in process analysis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quantify the problem at hand (“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it takes too long for getting a passport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 vs.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“issuance of the passport takes 41 days on average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identify which sub process is the least efficient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Shows bottlenecks, idle time, productive time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buClr>
                <a:srgbClr val="1c1c1c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se of Data in Monitoring &amp; Evaluation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identify the metrics to be monitored post implementation of GPR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Setting target metrics (“to-be” state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obtain baseline metrics (“as-is” state) 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measure and showcase project success (“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Average time for passport issuance has come down from 41 days to 5 days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a14"/>
                </a:solidFill>
                <a:latin typeface="Arial"/>
              </a:rPr>
              <a:t>Measure of Excellence / Performance metric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38040" y="1535040"/>
            <a:ext cx="4114800" cy="23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0"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ustomer / Citizen’s Point of view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assle free service deliver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dhering to promises made on Turnaround Tim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ror free deliverables – Deliver the right product at right place at right tim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Value for mone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ustomer Satisfaction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62640" y="1520640"/>
            <a:ext cx="4114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0"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Stakeholder’s Point of view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More time to carry out value adding task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oing more with less resources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igher revenue to the department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ccountability &amp; Transparency issue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Providing error free service deliver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pic>
        <p:nvPicPr>
          <p:cNvPr id="1090" name="Content Placeholder 7" descr=""/>
          <p:cNvPicPr/>
          <p:nvPr/>
        </p:nvPicPr>
        <p:blipFill>
          <a:blip r:embed="rId1"/>
          <a:stretch/>
        </p:blipFill>
        <p:spPr>
          <a:xfrm>
            <a:off x="231840" y="4273560"/>
            <a:ext cx="4230720" cy="1859040"/>
          </a:xfrm>
          <a:prstGeom prst="rect">
            <a:avLst/>
          </a:prstGeom>
          <a:ln w="0">
            <a:noFill/>
          </a:ln>
        </p:spPr>
      </p:pic>
      <p:pic>
        <p:nvPicPr>
          <p:cNvPr id="1091" name="Content Placeholder 11" descr=""/>
          <p:cNvPicPr/>
          <p:nvPr/>
        </p:nvPicPr>
        <p:blipFill>
          <a:blip r:embed="rId2"/>
          <a:stretch/>
        </p:blipFill>
        <p:spPr>
          <a:xfrm>
            <a:off x="4548240" y="4303800"/>
            <a:ext cx="4430520" cy="1815840"/>
          </a:xfrm>
          <a:prstGeom prst="rect">
            <a:avLst/>
          </a:prstGeom>
          <a:ln w="0">
            <a:noFill/>
          </a:ln>
        </p:spPr>
      </p:pic>
      <p:sp>
        <p:nvSpPr>
          <p:cNvPr id="1092" name="Down Arrow 8"/>
          <p:cNvSpPr/>
          <p:nvPr/>
        </p:nvSpPr>
        <p:spPr>
          <a:xfrm>
            <a:off x="1989000" y="3919680"/>
            <a:ext cx="333360" cy="333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0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3" name="Down Arrow 11"/>
          <p:cNvSpPr/>
          <p:nvPr/>
        </p:nvSpPr>
        <p:spPr>
          <a:xfrm>
            <a:off x="6477120" y="3905280"/>
            <a:ext cx="333360" cy="333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0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itical To Process metrics (CTPs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095" name="Picture 4" descr=""/>
          <p:cNvPicPr/>
          <p:nvPr/>
        </p:nvPicPr>
        <p:blipFill>
          <a:blip r:embed="rId1"/>
          <a:srcRect l="0" t="0" r="0" b="59487"/>
          <a:stretch/>
        </p:blipFill>
        <p:spPr>
          <a:xfrm>
            <a:off x="547560" y="4167360"/>
            <a:ext cx="8147160" cy="1861920"/>
          </a:xfrm>
          <a:prstGeom prst="rect">
            <a:avLst/>
          </a:prstGeom>
          <a:ln w="0">
            <a:noFill/>
          </a:ln>
        </p:spPr>
      </p:pic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68120" y="1371600"/>
            <a:ext cx="86709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TPs are the levers for delivering on the MoE / MoPs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Parameters from the various phases of the process which drive the MoE / MoP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TPs are not end to end but are specific to sub-processes and need to be measured &amp; streamlined in order to improve the MoE/MoP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e CTPs act as design variable – the specifications for CTPs get dictated by the MoE / MoPs targets which in turn influences the associated sub-proces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E / MoPs = F (CTP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97" name="Oval 6"/>
          <p:cNvSpPr/>
          <p:nvPr/>
        </p:nvSpPr>
        <p:spPr>
          <a:xfrm>
            <a:off x="1698480" y="4714920"/>
            <a:ext cx="884520" cy="581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1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8" name="Oval 7"/>
          <p:cNvSpPr/>
          <p:nvPr/>
        </p:nvSpPr>
        <p:spPr>
          <a:xfrm>
            <a:off x="3462480" y="3645000"/>
            <a:ext cx="884160" cy="579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2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9" name="Oval 8"/>
          <p:cNvSpPr/>
          <p:nvPr/>
        </p:nvSpPr>
        <p:spPr>
          <a:xfrm>
            <a:off x="5780160" y="4714920"/>
            <a:ext cx="885600" cy="581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 n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00" name="Oval 9"/>
          <p:cNvSpPr/>
          <p:nvPr/>
        </p:nvSpPr>
        <p:spPr>
          <a:xfrm>
            <a:off x="7939080" y="3645000"/>
            <a:ext cx="885960" cy="579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MoE / MoP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TP parameters are the internal check for the health of the proces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2409840" y="5921280"/>
            <a:ext cx="42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E/MoPs focus on End to End process while CTPs focus on the sub-proces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03" name="Group 50"/>
          <p:cNvGrpSpPr/>
          <p:nvPr/>
        </p:nvGrpSpPr>
        <p:grpSpPr>
          <a:xfrm>
            <a:off x="6316560" y="1171440"/>
            <a:ext cx="2470320" cy="2518920"/>
            <a:chOff x="6316560" y="1171440"/>
            <a:chExt cx="2470320" cy="2518920"/>
          </a:xfrm>
        </p:grpSpPr>
        <p:grpSp>
          <p:nvGrpSpPr>
            <p:cNvPr id="1104" name="Group 51"/>
            <p:cNvGrpSpPr/>
            <p:nvPr/>
          </p:nvGrpSpPr>
          <p:grpSpPr>
            <a:xfrm>
              <a:off x="6788160" y="2173320"/>
              <a:ext cx="627480" cy="1517040"/>
              <a:chOff x="6788160" y="2173320"/>
              <a:chExt cx="627480" cy="1517040"/>
            </a:xfrm>
          </p:grpSpPr>
          <p:sp>
            <p:nvSpPr>
              <p:cNvPr id="1105" name="Freeform 52"/>
              <p:cNvSpPr/>
              <p:nvPr/>
            </p:nvSpPr>
            <p:spPr>
              <a:xfrm>
                <a:off x="6900840" y="2423520"/>
                <a:ext cx="315720" cy="2646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41" h="437">
                    <a:moveTo>
                      <a:pt x="288" y="126"/>
                    </a:moveTo>
                    <a:lnTo>
                      <a:pt x="234" y="44"/>
                    </a:lnTo>
                    <a:lnTo>
                      <a:pt x="179" y="0"/>
                    </a:lnTo>
                    <a:lnTo>
                      <a:pt x="114" y="0"/>
                    </a:lnTo>
                    <a:lnTo>
                      <a:pt x="43" y="28"/>
                    </a:lnTo>
                    <a:lnTo>
                      <a:pt x="11" y="77"/>
                    </a:lnTo>
                    <a:lnTo>
                      <a:pt x="0" y="142"/>
                    </a:lnTo>
                    <a:lnTo>
                      <a:pt x="11" y="230"/>
                    </a:lnTo>
                    <a:lnTo>
                      <a:pt x="54" y="328"/>
                    </a:lnTo>
                    <a:lnTo>
                      <a:pt x="130" y="394"/>
                    </a:lnTo>
                    <a:lnTo>
                      <a:pt x="190" y="426"/>
                    </a:lnTo>
                    <a:lnTo>
                      <a:pt x="250" y="437"/>
                    </a:lnTo>
                    <a:lnTo>
                      <a:pt x="299" y="421"/>
                    </a:lnTo>
                    <a:lnTo>
                      <a:pt x="326" y="394"/>
                    </a:lnTo>
                    <a:lnTo>
                      <a:pt x="343" y="328"/>
                    </a:lnTo>
                    <a:lnTo>
                      <a:pt x="338" y="251"/>
                    </a:lnTo>
                    <a:lnTo>
                      <a:pt x="320" y="187"/>
                    </a:lnTo>
                    <a:lnTo>
                      <a:pt x="429" y="126"/>
                    </a:lnTo>
                    <a:lnTo>
                      <a:pt x="441" y="99"/>
                    </a:lnTo>
                    <a:lnTo>
                      <a:pt x="429" y="87"/>
                    </a:lnTo>
                    <a:lnTo>
                      <a:pt x="310" y="159"/>
                    </a:lnTo>
                    <a:lnTo>
                      <a:pt x="288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6" name="Freeform 53"/>
              <p:cNvSpPr/>
              <p:nvPr/>
            </p:nvSpPr>
            <p:spPr>
              <a:xfrm>
                <a:off x="7128000" y="2173320"/>
                <a:ext cx="279720" cy="5896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393" h="976">
                    <a:moveTo>
                      <a:pt x="109" y="824"/>
                    </a:moveTo>
                    <a:lnTo>
                      <a:pt x="38" y="878"/>
                    </a:lnTo>
                    <a:lnTo>
                      <a:pt x="16" y="895"/>
                    </a:lnTo>
                    <a:lnTo>
                      <a:pt x="0" y="933"/>
                    </a:lnTo>
                    <a:lnTo>
                      <a:pt x="22" y="971"/>
                    </a:lnTo>
                    <a:lnTo>
                      <a:pt x="43" y="976"/>
                    </a:lnTo>
                    <a:lnTo>
                      <a:pt x="109" y="955"/>
                    </a:lnTo>
                    <a:lnTo>
                      <a:pt x="207" y="878"/>
                    </a:lnTo>
                    <a:lnTo>
                      <a:pt x="295" y="786"/>
                    </a:lnTo>
                    <a:lnTo>
                      <a:pt x="388" y="682"/>
                    </a:lnTo>
                    <a:lnTo>
                      <a:pt x="393" y="638"/>
                    </a:lnTo>
                    <a:lnTo>
                      <a:pt x="393" y="519"/>
                    </a:lnTo>
                    <a:lnTo>
                      <a:pt x="366" y="333"/>
                    </a:lnTo>
                    <a:lnTo>
                      <a:pt x="382" y="224"/>
                    </a:lnTo>
                    <a:lnTo>
                      <a:pt x="393" y="180"/>
                    </a:lnTo>
                    <a:lnTo>
                      <a:pt x="377" y="158"/>
                    </a:lnTo>
                    <a:lnTo>
                      <a:pt x="338" y="137"/>
                    </a:lnTo>
                    <a:lnTo>
                      <a:pt x="311" y="120"/>
                    </a:lnTo>
                    <a:lnTo>
                      <a:pt x="327" y="22"/>
                    </a:lnTo>
                    <a:lnTo>
                      <a:pt x="316" y="0"/>
                    </a:lnTo>
                    <a:lnTo>
                      <a:pt x="295" y="6"/>
                    </a:lnTo>
                    <a:lnTo>
                      <a:pt x="284" y="131"/>
                    </a:lnTo>
                    <a:lnTo>
                      <a:pt x="273" y="164"/>
                    </a:lnTo>
                    <a:lnTo>
                      <a:pt x="268" y="185"/>
                    </a:lnTo>
                    <a:lnTo>
                      <a:pt x="224" y="169"/>
                    </a:lnTo>
                    <a:lnTo>
                      <a:pt x="191" y="169"/>
                    </a:lnTo>
                    <a:lnTo>
                      <a:pt x="191" y="191"/>
                    </a:lnTo>
                    <a:lnTo>
                      <a:pt x="213" y="208"/>
                    </a:lnTo>
                    <a:lnTo>
                      <a:pt x="252" y="208"/>
                    </a:lnTo>
                    <a:lnTo>
                      <a:pt x="279" y="229"/>
                    </a:lnTo>
                    <a:lnTo>
                      <a:pt x="300" y="267"/>
                    </a:lnTo>
                    <a:lnTo>
                      <a:pt x="322" y="328"/>
                    </a:lnTo>
                    <a:lnTo>
                      <a:pt x="338" y="447"/>
                    </a:lnTo>
                    <a:lnTo>
                      <a:pt x="338" y="556"/>
                    </a:lnTo>
                    <a:lnTo>
                      <a:pt x="327" y="644"/>
                    </a:lnTo>
                    <a:lnTo>
                      <a:pt x="306" y="682"/>
                    </a:lnTo>
                    <a:lnTo>
                      <a:pt x="229" y="737"/>
                    </a:lnTo>
                    <a:lnTo>
                      <a:pt x="147" y="786"/>
                    </a:lnTo>
                    <a:lnTo>
                      <a:pt x="109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7" name="Freeform 54"/>
              <p:cNvSpPr/>
              <p:nvPr/>
            </p:nvSpPr>
            <p:spPr>
              <a:xfrm>
                <a:off x="6788160" y="2717280"/>
                <a:ext cx="254160" cy="3564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355" h="589">
                    <a:moveTo>
                      <a:pt x="355" y="16"/>
                    </a:moveTo>
                    <a:lnTo>
                      <a:pt x="316" y="0"/>
                    </a:lnTo>
                    <a:lnTo>
                      <a:pt x="234" y="5"/>
                    </a:lnTo>
                    <a:lnTo>
                      <a:pt x="163" y="60"/>
                    </a:lnTo>
                    <a:lnTo>
                      <a:pt x="59" y="175"/>
                    </a:lnTo>
                    <a:lnTo>
                      <a:pt x="5" y="267"/>
                    </a:lnTo>
                    <a:lnTo>
                      <a:pt x="0" y="300"/>
                    </a:lnTo>
                    <a:lnTo>
                      <a:pt x="27" y="360"/>
                    </a:lnTo>
                    <a:lnTo>
                      <a:pt x="86" y="387"/>
                    </a:lnTo>
                    <a:lnTo>
                      <a:pt x="163" y="420"/>
                    </a:lnTo>
                    <a:lnTo>
                      <a:pt x="224" y="436"/>
                    </a:lnTo>
                    <a:lnTo>
                      <a:pt x="251" y="464"/>
                    </a:lnTo>
                    <a:lnTo>
                      <a:pt x="234" y="502"/>
                    </a:lnTo>
                    <a:lnTo>
                      <a:pt x="191" y="546"/>
                    </a:lnTo>
                    <a:lnTo>
                      <a:pt x="136" y="551"/>
                    </a:lnTo>
                    <a:lnTo>
                      <a:pt x="98" y="534"/>
                    </a:lnTo>
                    <a:lnTo>
                      <a:pt x="76" y="551"/>
                    </a:lnTo>
                    <a:lnTo>
                      <a:pt x="81" y="573"/>
                    </a:lnTo>
                    <a:lnTo>
                      <a:pt x="125" y="589"/>
                    </a:lnTo>
                    <a:lnTo>
                      <a:pt x="191" y="589"/>
                    </a:lnTo>
                    <a:lnTo>
                      <a:pt x="251" y="573"/>
                    </a:lnTo>
                    <a:lnTo>
                      <a:pt x="284" y="551"/>
                    </a:lnTo>
                    <a:lnTo>
                      <a:pt x="306" y="512"/>
                    </a:lnTo>
                    <a:lnTo>
                      <a:pt x="316" y="469"/>
                    </a:lnTo>
                    <a:lnTo>
                      <a:pt x="289" y="430"/>
                    </a:lnTo>
                    <a:lnTo>
                      <a:pt x="224" y="403"/>
                    </a:lnTo>
                    <a:lnTo>
                      <a:pt x="147" y="382"/>
                    </a:lnTo>
                    <a:lnTo>
                      <a:pt x="81" y="344"/>
                    </a:lnTo>
                    <a:lnTo>
                      <a:pt x="65" y="311"/>
                    </a:lnTo>
                    <a:lnTo>
                      <a:pt x="76" y="251"/>
                    </a:lnTo>
                    <a:lnTo>
                      <a:pt x="125" y="175"/>
                    </a:lnTo>
                    <a:lnTo>
                      <a:pt x="186" y="130"/>
                    </a:lnTo>
                    <a:lnTo>
                      <a:pt x="279" y="98"/>
                    </a:lnTo>
                    <a:lnTo>
                      <a:pt x="355" y="82"/>
                    </a:lnTo>
                    <a:lnTo>
                      <a:pt x="355" y="37"/>
                    </a:lnTo>
                    <a:lnTo>
                      <a:pt x="35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8" name="Freeform 55"/>
              <p:cNvSpPr/>
              <p:nvPr/>
            </p:nvSpPr>
            <p:spPr>
              <a:xfrm>
                <a:off x="6995160" y="2701440"/>
                <a:ext cx="237240" cy="43776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437760"/>
                  <a:gd name="textAreaBottom" fmla="*/ 438120 h 437760"/>
                </a:gdLst>
                <a:ahLst/>
                <a:rect l="textAreaLeft" t="textAreaTop" r="textAreaRight" b="textAreaBottom"/>
                <a:pathLst>
                  <a:path w="333" h="725">
                    <a:moveTo>
                      <a:pt x="290" y="229"/>
                    </a:moveTo>
                    <a:lnTo>
                      <a:pt x="256" y="93"/>
                    </a:lnTo>
                    <a:lnTo>
                      <a:pt x="218" y="27"/>
                    </a:lnTo>
                    <a:lnTo>
                      <a:pt x="136" y="0"/>
                    </a:lnTo>
                    <a:lnTo>
                      <a:pt x="54" y="11"/>
                    </a:lnTo>
                    <a:lnTo>
                      <a:pt x="17" y="82"/>
                    </a:lnTo>
                    <a:lnTo>
                      <a:pt x="22" y="169"/>
                    </a:lnTo>
                    <a:lnTo>
                      <a:pt x="44" y="311"/>
                    </a:lnTo>
                    <a:lnTo>
                      <a:pt x="44" y="436"/>
                    </a:lnTo>
                    <a:lnTo>
                      <a:pt x="17" y="545"/>
                    </a:lnTo>
                    <a:lnTo>
                      <a:pt x="0" y="605"/>
                    </a:lnTo>
                    <a:lnTo>
                      <a:pt x="11" y="659"/>
                    </a:lnTo>
                    <a:lnTo>
                      <a:pt x="49" y="687"/>
                    </a:lnTo>
                    <a:lnTo>
                      <a:pt x="99" y="714"/>
                    </a:lnTo>
                    <a:lnTo>
                      <a:pt x="147" y="725"/>
                    </a:lnTo>
                    <a:lnTo>
                      <a:pt x="208" y="725"/>
                    </a:lnTo>
                    <a:lnTo>
                      <a:pt x="279" y="670"/>
                    </a:lnTo>
                    <a:lnTo>
                      <a:pt x="333" y="556"/>
                    </a:lnTo>
                    <a:lnTo>
                      <a:pt x="328" y="452"/>
                    </a:lnTo>
                    <a:lnTo>
                      <a:pt x="295" y="332"/>
                    </a:lnTo>
                    <a:lnTo>
                      <a:pt x="290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9" name="Freeform 56"/>
              <p:cNvSpPr/>
              <p:nvPr/>
            </p:nvSpPr>
            <p:spPr>
              <a:xfrm>
                <a:off x="6923880" y="3057120"/>
                <a:ext cx="179640" cy="63324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53" h="1048">
                    <a:moveTo>
                      <a:pt x="241" y="16"/>
                    </a:moveTo>
                    <a:lnTo>
                      <a:pt x="176" y="0"/>
                    </a:lnTo>
                    <a:lnTo>
                      <a:pt x="137" y="16"/>
                    </a:lnTo>
                    <a:lnTo>
                      <a:pt x="121" y="70"/>
                    </a:lnTo>
                    <a:lnTo>
                      <a:pt x="137" y="370"/>
                    </a:lnTo>
                    <a:lnTo>
                      <a:pt x="137" y="441"/>
                    </a:lnTo>
                    <a:lnTo>
                      <a:pt x="116" y="573"/>
                    </a:lnTo>
                    <a:lnTo>
                      <a:pt x="110" y="725"/>
                    </a:lnTo>
                    <a:lnTo>
                      <a:pt x="121" y="802"/>
                    </a:lnTo>
                    <a:lnTo>
                      <a:pt x="110" y="845"/>
                    </a:lnTo>
                    <a:lnTo>
                      <a:pt x="34" y="911"/>
                    </a:lnTo>
                    <a:lnTo>
                      <a:pt x="0" y="993"/>
                    </a:lnTo>
                    <a:lnTo>
                      <a:pt x="7" y="1020"/>
                    </a:lnTo>
                    <a:lnTo>
                      <a:pt x="66" y="1048"/>
                    </a:lnTo>
                    <a:lnTo>
                      <a:pt x="82" y="1036"/>
                    </a:lnTo>
                    <a:lnTo>
                      <a:pt x="89" y="987"/>
                    </a:lnTo>
                    <a:lnTo>
                      <a:pt x="105" y="916"/>
                    </a:lnTo>
                    <a:lnTo>
                      <a:pt x="132" y="884"/>
                    </a:lnTo>
                    <a:lnTo>
                      <a:pt x="164" y="862"/>
                    </a:lnTo>
                    <a:lnTo>
                      <a:pt x="192" y="834"/>
                    </a:lnTo>
                    <a:lnTo>
                      <a:pt x="198" y="813"/>
                    </a:lnTo>
                    <a:lnTo>
                      <a:pt x="181" y="786"/>
                    </a:lnTo>
                    <a:lnTo>
                      <a:pt x="164" y="769"/>
                    </a:lnTo>
                    <a:lnTo>
                      <a:pt x="153" y="704"/>
                    </a:lnTo>
                    <a:lnTo>
                      <a:pt x="164" y="567"/>
                    </a:lnTo>
                    <a:lnTo>
                      <a:pt x="203" y="409"/>
                    </a:lnTo>
                    <a:lnTo>
                      <a:pt x="241" y="283"/>
                    </a:lnTo>
                    <a:lnTo>
                      <a:pt x="253" y="131"/>
                    </a:lnTo>
                    <a:lnTo>
                      <a:pt x="2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10" name="Freeform 57"/>
              <p:cNvSpPr/>
              <p:nvPr/>
            </p:nvSpPr>
            <p:spPr>
              <a:xfrm>
                <a:off x="7119720" y="3057120"/>
                <a:ext cx="295920" cy="5342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534240"/>
                  <a:gd name="textAreaBottom" fmla="*/ 534600 h 534240"/>
                </a:gdLst>
                <a:ahLst/>
                <a:rect l="textAreaLeft" t="textAreaTop" r="textAreaRight" b="textAreaBottom"/>
                <a:pathLst>
                  <a:path w="415" h="884">
                    <a:moveTo>
                      <a:pt x="136" y="131"/>
                    </a:moveTo>
                    <a:lnTo>
                      <a:pt x="126" y="43"/>
                    </a:lnTo>
                    <a:lnTo>
                      <a:pt x="77" y="0"/>
                    </a:lnTo>
                    <a:lnTo>
                      <a:pt x="6" y="5"/>
                    </a:lnTo>
                    <a:lnTo>
                      <a:pt x="0" y="43"/>
                    </a:lnTo>
                    <a:lnTo>
                      <a:pt x="6" y="125"/>
                    </a:lnTo>
                    <a:lnTo>
                      <a:pt x="43" y="250"/>
                    </a:lnTo>
                    <a:lnTo>
                      <a:pt x="72" y="343"/>
                    </a:lnTo>
                    <a:lnTo>
                      <a:pt x="104" y="468"/>
                    </a:lnTo>
                    <a:lnTo>
                      <a:pt x="115" y="577"/>
                    </a:lnTo>
                    <a:lnTo>
                      <a:pt x="115" y="665"/>
                    </a:lnTo>
                    <a:lnTo>
                      <a:pt x="99" y="731"/>
                    </a:lnTo>
                    <a:lnTo>
                      <a:pt x="82" y="752"/>
                    </a:lnTo>
                    <a:lnTo>
                      <a:pt x="82" y="774"/>
                    </a:lnTo>
                    <a:lnTo>
                      <a:pt x="104" y="807"/>
                    </a:lnTo>
                    <a:lnTo>
                      <a:pt x="142" y="818"/>
                    </a:lnTo>
                    <a:lnTo>
                      <a:pt x="202" y="818"/>
                    </a:lnTo>
                    <a:lnTo>
                      <a:pt x="311" y="845"/>
                    </a:lnTo>
                    <a:lnTo>
                      <a:pt x="344" y="884"/>
                    </a:lnTo>
                    <a:lnTo>
                      <a:pt x="393" y="861"/>
                    </a:lnTo>
                    <a:lnTo>
                      <a:pt x="415" y="807"/>
                    </a:lnTo>
                    <a:lnTo>
                      <a:pt x="393" y="786"/>
                    </a:lnTo>
                    <a:lnTo>
                      <a:pt x="300" y="774"/>
                    </a:lnTo>
                    <a:lnTo>
                      <a:pt x="197" y="774"/>
                    </a:lnTo>
                    <a:lnTo>
                      <a:pt x="153" y="768"/>
                    </a:lnTo>
                    <a:lnTo>
                      <a:pt x="142" y="736"/>
                    </a:lnTo>
                    <a:lnTo>
                      <a:pt x="153" y="676"/>
                    </a:lnTo>
                    <a:lnTo>
                      <a:pt x="159" y="572"/>
                    </a:lnTo>
                    <a:lnTo>
                      <a:pt x="147" y="458"/>
                    </a:lnTo>
                    <a:lnTo>
                      <a:pt x="131" y="305"/>
                    </a:lnTo>
                    <a:lnTo>
                      <a:pt x="136" y="174"/>
                    </a:lnTo>
                    <a:lnTo>
                      <a:pt x="136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</p:grpSp>
        <p:sp>
          <p:nvSpPr>
            <p:cNvPr id="1111" name="AutoShape 58"/>
            <p:cNvSpPr/>
            <p:nvPr/>
          </p:nvSpPr>
          <p:spPr>
            <a:xfrm>
              <a:off x="6316560" y="1171440"/>
              <a:ext cx="2470320" cy="993600"/>
            </a:xfrm>
            <a:prstGeom prst="cloudCallout">
              <a:avLst>
                <a:gd name="adj1" fmla="val -18458"/>
                <a:gd name="adj2" fmla="val 6423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MoE: Quality of 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Product / service,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speed of service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12" name="Text Box 59"/>
            <p:cNvSpPr/>
            <p:nvPr/>
          </p:nvSpPr>
          <p:spPr>
            <a:xfrm>
              <a:off x="7328520" y="27705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grpSp>
        <p:nvGrpSpPr>
          <p:cNvPr id="1113" name="Group 39"/>
          <p:cNvGrpSpPr/>
          <p:nvPr/>
        </p:nvGrpSpPr>
        <p:grpSpPr>
          <a:xfrm>
            <a:off x="6615000" y="4495680"/>
            <a:ext cx="2336760" cy="2133360"/>
            <a:chOff x="6615000" y="4495680"/>
            <a:chExt cx="2336760" cy="2133360"/>
          </a:xfrm>
        </p:grpSpPr>
        <p:pic>
          <p:nvPicPr>
            <p:cNvPr id="1114" name="" descr=""/>
            <p:cNvPicPr/>
            <p:nvPr/>
          </p:nvPicPr>
          <p:blipFill>
            <a:blip r:embed="rId1"/>
            <a:stretch/>
          </p:blipFill>
          <p:spPr>
            <a:xfrm>
              <a:off x="6615000" y="5028840"/>
              <a:ext cx="857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AutoShape 62"/>
            <p:cNvSpPr/>
            <p:nvPr/>
          </p:nvSpPr>
          <p:spPr>
            <a:xfrm>
              <a:off x="7275240" y="4495680"/>
              <a:ext cx="1676520" cy="685800"/>
            </a:xfrm>
            <a:prstGeom prst="wedgeRoundRectCallout">
              <a:avLst>
                <a:gd name="adj1" fmla="val -50472"/>
                <a:gd name="adj2" fmla="val 69907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MoP: Cos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Exposure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Controls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16" name="Text Box 63"/>
            <p:cNvSpPr/>
            <p:nvPr/>
          </p:nvSpPr>
          <p:spPr>
            <a:xfrm>
              <a:off x="7374240" y="583560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Stakeholder</a:t>
              </a:r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sp>
        <p:nvSpPr>
          <p:cNvPr id="1117" name="AutoShape 65"/>
          <p:cNvSpPr/>
          <p:nvPr/>
        </p:nvSpPr>
        <p:spPr>
          <a:xfrm>
            <a:off x="7016760" y="3184560"/>
            <a:ext cx="1898640" cy="1050840"/>
          </a:xfrm>
          <a:custGeom>
            <a:avLst/>
            <a:gdLst>
              <a:gd name="textAreaLeft" fmla="*/ 373320 w 1898640"/>
              <a:gd name="textAreaRight" fmla="*/ 1525320 w 1898640"/>
              <a:gd name="textAreaTop" fmla="*/ 250920 h 1050840"/>
              <a:gd name="textAreaBottom" fmla="*/ 799920 h 1050840"/>
            </a:gdLst>
            <a:ahLst/>
            <a:rect l="textAreaLeft" t="textAreaTop" r="textAreaRight" b="textAreaBottom"/>
            <a:pathLst>
              <a:path w="21600" h="21600">
                <a:moveTo>
                  <a:pt x="0" y="5159"/>
                </a:moveTo>
                <a:lnTo>
                  <a:pt x="13469" y="5159"/>
                </a:lnTo>
                <a:lnTo>
                  <a:pt x="13469" y="0"/>
                </a:lnTo>
                <a:lnTo>
                  <a:pt x="21600" y="10800"/>
                </a:lnTo>
                <a:lnTo>
                  <a:pt x="13469" y="21600"/>
                </a:lnTo>
                <a:lnTo>
                  <a:pt x="13469" y="16441"/>
                </a:lnTo>
                <a:lnTo>
                  <a:pt x="0" y="16441"/>
                </a:lnTo>
                <a:lnTo>
                  <a:pt x="4247" y="10800"/>
                </a:lnTo>
                <a:lnTo>
                  <a:pt x="0" y="5159"/>
                </a:lnTo>
                <a:close/>
              </a:path>
            </a:pathLst>
          </a:custGeom>
          <a:solidFill>
            <a:srgbClr val="fd8b84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Passport process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18" name="Group 66"/>
          <p:cNvGrpSpPr/>
          <p:nvPr/>
        </p:nvGrpSpPr>
        <p:grpSpPr>
          <a:xfrm>
            <a:off x="114480" y="2205000"/>
            <a:ext cx="7157520" cy="3030480"/>
            <a:chOff x="114480" y="2205000"/>
            <a:chExt cx="7157520" cy="3030480"/>
          </a:xfrm>
        </p:grpSpPr>
        <p:sp>
          <p:nvSpPr>
            <p:cNvPr id="1119" name="Line 68"/>
            <p:cNvSpPr/>
            <p:nvPr/>
          </p:nvSpPr>
          <p:spPr>
            <a:xfrm flipV="1">
              <a:off x="531468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0" name="Line 69"/>
            <p:cNvSpPr/>
            <p:nvPr/>
          </p:nvSpPr>
          <p:spPr>
            <a:xfrm>
              <a:off x="1398600" y="3718080"/>
              <a:ext cx="5873400" cy="0"/>
            </a:xfrm>
            <a:prstGeom prst="line">
              <a:avLst/>
            </a:prstGeom>
            <a:ln w="9360">
              <a:solidFill>
                <a:srgbClr val="fdb1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1" name="AutoShape 70"/>
            <p:cNvSpPr/>
            <p:nvPr/>
          </p:nvSpPr>
          <p:spPr>
            <a:xfrm>
              <a:off x="114480" y="325764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 Customer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2" name="Line 71"/>
            <p:cNvSpPr/>
            <p:nvPr/>
          </p:nvSpPr>
          <p:spPr>
            <a:xfrm>
              <a:off x="1625400" y="2556720"/>
              <a:ext cx="110628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3" name="AutoShape 72"/>
            <p:cNvSpPr/>
            <p:nvPr/>
          </p:nvSpPr>
          <p:spPr>
            <a:xfrm>
              <a:off x="1557360" y="2205000"/>
              <a:ext cx="1423440" cy="914400"/>
            </a:xfrm>
            <a:custGeom>
              <a:avLst/>
              <a:gdLst>
                <a:gd name="textAreaLeft" fmla="*/ 0 w 1423440"/>
                <a:gd name="textAreaRight" fmla="*/ 1423800 w 1423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 Review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4" name="Line 73"/>
            <p:cNvSpPr/>
            <p:nvPr/>
          </p:nvSpPr>
          <p:spPr>
            <a:xfrm flipV="1">
              <a:off x="204768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5" name="AutoShape 74"/>
            <p:cNvSpPr/>
            <p:nvPr/>
          </p:nvSpPr>
          <p:spPr>
            <a:xfrm>
              <a:off x="1560240" y="432108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. Process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6" name="Line 75"/>
            <p:cNvSpPr/>
            <p:nvPr/>
          </p:nvSpPr>
          <p:spPr>
            <a:xfrm>
              <a:off x="3157560" y="2556720"/>
              <a:ext cx="110592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7" name="AutoShape 76"/>
            <p:cNvSpPr/>
            <p:nvPr/>
          </p:nvSpPr>
          <p:spPr>
            <a:xfrm>
              <a:off x="3179520" y="220500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 Initiate police verif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8" name="Line 77"/>
            <p:cNvSpPr/>
            <p:nvPr/>
          </p:nvSpPr>
          <p:spPr>
            <a:xfrm flipV="1">
              <a:off x="357804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9" name="AutoShape 78"/>
            <p:cNvSpPr/>
            <p:nvPr/>
          </p:nvSpPr>
          <p:spPr>
            <a:xfrm>
              <a:off x="3179520" y="432108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. Update verification results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0" name="Line 79"/>
            <p:cNvSpPr/>
            <p:nvPr/>
          </p:nvSpPr>
          <p:spPr>
            <a:xfrm>
              <a:off x="4933800" y="2556720"/>
              <a:ext cx="110628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1" name="AutoShape 80"/>
            <p:cNvSpPr/>
            <p:nvPr/>
          </p:nvSpPr>
          <p:spPr>
            <a:xfrm>
              <a:off x="4794120" y="2205000"/>
              <a:ext cx="1425240" cy="9144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 Prepare Passpor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2" name="AutoShape 81"/>
            <p:cNvSpPr/>
            <p:nvPr/>
          </p:nvSpPr>
          <p:spPr>
            <a:xfrm>
              <a:off x="4794120" y="4321080"/>
              <a:ext cx="1425240" cy="9144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 Dispatch Passpor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sp>
        <p:nvSpPr>
          <p:cNvPr id="1133" name="AutoShape 89"/>
          <p:cNvSpPr/>
          <p:nvPr/>
        </p:nvSpPr>
        <p:spPr>
          <a:xfrm>
            <a:off x="114480" y="1900080"/>
            <a:ext cx="114300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1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Wait tim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4" name="AutoShape 89"/>
          <p:cNvSpPr/>
          <p:nvPr/>
        </p:nvSpPr>
        <p:spPr>
          <a:xfrm>
            <a:off x="4794120" y="1211400"/>
            <a:ext cx="1143000" cy="993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6 –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5" name="TextBox 37"/>
          <p:cNvSpPr/>
          <p:nvPr/>
        </p:nvSpPr>
        <p:spPr>
          <a:xfrm>
            <a:off x="160200" y="6307200"/>
            <a:ext cx="22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b0a14"/>
                </a:solidFill>
                <a:latin typeface="Arial"/>
              </a:rPr>
              <a:t>TAT - Turn Around Time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6" name="AutoShape 89"/>
          <p:cNvSpPr/>
          <p:nvPr/>
        </p:nvSpPr>
        <p:spPr>
          <a:xfrm>
            <a:off x="2924280" y="3224160"/>
            <a:ext cx="114300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5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TAT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7" name="AutoShape 89"/>
          <p:cNvSpPr/>
          <p:nvPr/>
        </p:nvSpPr>
        <p:spPr>
          <a:xfrm>
            <a:off x="507960" y="4976640"/>
            <a:ext cx="170496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3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Data entry error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variables to select for data collection?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Broadly identify the universal set of independent variables (CTP) impacting the CTQ under consideration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spcAft>
                <a:spcPts val="451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Y =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f(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 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 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….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where Y is the CTQ (dependent variable) and X</a:t>
            </a:r>
            <a:r>
              <a:rPr b="0" lang="en-US" sz="1800" spc="-1" strike="noStrike" baseline="-25000">
                <a:solidFill>
                  <a:srgbClr val="1c1c1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 are the independent variables (CTPs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Use a structured process for short-listing the CTPs for which data collection needs to be done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: Time taken for issuance of passport is a CTQ in the passport issuance process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Time taken for passport issue = f (time taken to file application, processing time, police verification time, …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thod for short listing data collection variables:</a:t>
            </a:r>
            <a:br>
              <a:rPr sz="2400"/>
            </a:b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ause and Effect Matrix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9840" y="163800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List the CTQs across the top of a matrix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Rank and assign scores to each CTQ according to its importance to the customer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List the CTPs on the left side of the matrix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termine correlation scores between each cause and CTQ based on the strength of their relationship (E.g. 1 – weak, 3 – some, 9 – strong)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oss multiply correlation scores with priority scores and add across for each caus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581040" y="3986280"/>
          <a:ext cx="4705200" cy="2158920"/>
        </p:xfrm>
        <a:graphic>
          <a:graphicData uri="http://schemas.openxmlformats.org/drawingml/2006/table">
            <a:tbl>
              <a:tblPr/>
              <a:tblGrid>
                <a:gridCol w="784080"/>
                <a:gridCol w="784440"/>
                <a:gridCol w="785880"/>
                <a:gridCol w="782640"/>
                <a:gridCol w="784080"/>
                <a:gridCol w="7840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Imp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4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5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.4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3" name="Rounded Rectangular Callout 5"/>
          <p:cNvSpPr/>
          <p:nvPr/>
        </p:nvSpPr>
        <p:spPr>
          <a:xfrm>
            <a:off x="6022800" y="3986280"/>
            <a:ext cx="2943360" cy="1285920"/>
          </a:xfrm>
          <a:prstGeom prst="wedgeRoundRectCallout">
            <a:avLst>
              <a:gd name="adj1" fmla="val -63064"/>
              <a:gd name="adj2" fmla="val 25712"/>
              <a:gd name="adj3" fmla="val 16667"/>
            </a:avLst>
          </a:prstGeom>
          <a:solidFill>
            <a:srgbClr val="fd8b84"/>
          </a:solidFill>
          <a:ln w="9360">
            <a:solidFill>
              <a:srgbClr val="7b0a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b0a14"/>
                </a:solidFill>
                <a:latin typeface="Arial"/>
              </a:rPr>
              <a:t>Data should be collected on all CTPs which have high overall correlation with CTQ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Nisg</cp:lastModifiedBy>
  <cp:lastPrinted>2012-04-09T12:07:33Z</cp:lastPrinted>
  <dcterms:modified xsi:type="dcterms:W3CDTF">2012-04-12T11:31:35Z</dcterms:modified>
  <cp:revision>764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</vt:r8>
  </property>
</Properties>
</file>